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F9F-57F2-44D2-A3AC-F579582E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DC3-43E0-4E24-813F-E18BEA81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B44-027E-4566-B3E3-3DC1879A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8B4-41F9-4F9B-837C-71A297A2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E9A8-F031-442E-9065-8720B82D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A190-CE0D-487A-AF09-0A38F81D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B21B-FEFB-471C-BDDF-6EDA7400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D943-318A-4913-A03F-9EADCBE0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AC3F-C2D6-4685-9D92-3A499C50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4C6D-F735-4D94-B4E2-97F817B0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D686-68E0-4154-B5C4-776B5DD4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C22-ABD4-4BEB-B57D-DBCC0A15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1103-D4A7-4EC6-812E-7127845C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A070-4E3A-497F-AA7A-C62E61A7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07D0-738E-4A83-B356-31B3E6BD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FC1D-C3D3-41A7-8056-AFDD5903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24ED-0E95-41A1-A582-745346B9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B2FFF-2420-4CE1-8882-135BB096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774B-DA18-4D8B-844B-1C980BFD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C6F3-34B8-48BC-B461-D21DCCA8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6EA4E-030E-47D5-B2C0-40E8C099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9CFF8-CBEE-4B11-9513-35CADF5B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6190-1FDA-4E54-B73B-77E24AFE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F6FB-9A89-42FB-A0B6-BC9BF9BC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CFCA-78F5-4640-99C5-1150773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1C4D-6890-4F70-A7B5-17CC3EF3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82B92-1BDC-4677-A980-459B9858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E4F0-01A4-4565-8185-7A5F41B7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0A7C-E4DD-4612-8151-6F9BB3C2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0E5E4-F64A-490F-A26E-E2FC2DFB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3E879-EE52-4D25-922C-48807779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3756-2299-4C7B-8163-1FE1E0D8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8528B-BA6F-45B5-BE64-FC7DCBF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C0D-5721-458E-83C7-5EBD5AB1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56B6-1530-46B1-8C84-C6B50390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2566-73D3-463A-ACF4-F5AA4EDD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1405-21D8-43C6-8518-1D2259B4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DCF86-268A-4643-9C85-3BA67892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EF05C-B7D7-42EA-BF18-484CF39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7F489-F434-4BED-90C0-701B18F0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F7028-E8CE-4DCF-B1AC-CCB25AE9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3F161-D1D5-4F40-A068-C4721275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10F20-3D51-4405-AD7E-054D0DDB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BDC7B-8E09-4808-9819-25E986B0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B94-2B6F-40F5-B70B-5ACC5ED3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D0827-FD2A-4BE3-BB2F-69DECD2E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79DBF-A525-47AA-964D-E3710135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F25E2-334B-4988-823A-3265D036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0FAD2-0F32-4967-8FD6-5E27C9EF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AAA9B-4D6A-427B-91BD-926F317B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C1749-992F-41CE-A58D-B7322F89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00C37-B792-4437-8AEE-7679E3E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7F3B-26CC-4EA7-9ADE-DAD93233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FA8A-5770-4831-899E-F3C1F397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9115D-5ACC-4BC0-AF9F-7CDCE0F6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021-CDA4-49A9-9DFC-9365F31B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C8FC9-FFF1-464D-B807-B37DE954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0DE14-BEB7-484D-9EC2-695FD382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B08BA-ABE3-4DB5-967C-014D8381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E41A3-83EB-4A50-B740-0BA28524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4CCD9-FE21-4A0D-BAF7-2F316B27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3B344-315D-4F32-A2D2-5F1B0CE6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EB53-136B-40E1-B7E2-811B41D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A9AE-390B-43F7-B5C2-1A8422C6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8AE9A-CE57-4242-9AD5-45ACE295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F6467-AE19-4E33-8A8C-F64000C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506-8FAE-48A9-9734-5B474096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BB425-0597-4ADC-A95A-7B2FA02C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8469B-DE41-411F-8776-4B2FDFAB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6029-D373-40EA-B8DA-F5200A2C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0284-A2CF-4EE1-A1CE-28EBFF9B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464CA-9A2C-4712-A0D2-F43D97D9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D281E-6CB9-40BF-844D-A4B455EB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8BB67-11BD-4896-8248-10A09F89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2E93C-3184-4192-8579-40A99FCB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D7223-66F0-47AA-8981-FC5DBD89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D864A-5F40-4188-9FAC-39DD6610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317-2A07-49B8-BC06-9987F4EA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FF1D5-466C-48C3-91C0-58D3CC1B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3D6FA-68D5-4ECB-A9BF-C1EFF4FE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DFC92-630F-4557-80C2-CE8BAC95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A512F-B14B-4AA9-84FC-653F611B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AC36-1F28-4E8E-9065-E6F8FB22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5AFA4-C6CF-4B43-A752-939096C9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54B30-5616-4CC5-8418-B1371B36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0AA63-0A16-424B-AD1E-883BC59D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F9FF9-09A7-4DF5-8066-EE1FB180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C5AAA-7701-4DF3-816A-88EBCAA1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168-C64D-4995-8D33-62BA1D3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5B108-D1D0-4195-A1C7-A094CD5A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96DEB-32B7-4420-9D79-B3F8C46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D9058-3EC8-494B-B37C-D5B1103E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8DB19-EBF1-497A-9F33-BB03084A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37E9-E797-4D9D-90DB-841463BD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BC264-BE3D-455D-AFD3-B5077E16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8F64D-FD9C-4F6C-95BD-46C7C234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828F-A175-43A2-8787-EB41FB544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E3EF-EFDE-4452-B7D1-9A13660F8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D812-68EB-4B38-A814-CC42CD5DC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FED3-38F8-49CF-B20D-9580DE84F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8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7B4B-CF58-4900-9437-3B97A6D70B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3FD9-2896-4565-9FCD-10776DDCB6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9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BD3A-8AAE-4340-9412-C6A991D04D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35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BB45-0DA5-4B54-8FC0-7E49D93D5D5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SAVANNA!!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y: David Bell, Mark Coryell, and Jamie Berge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gyptian Mongoose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males take turns babysitting while in p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rsed for 6 month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ly live up to 7-12 years (very ac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rnivorous also eat fruit (if availab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et: rodents, fish, birds, reptiiles, amphibians, insects &amp; insect larvae (also eggs of these anima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t POISONOUS snak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le to run backwards, rollover, swim, &amp; stand on two hind le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gyptian Mongoose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yed on by birds, and large carnivo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nefit enviroment by killing pest to humans like rats &amp; sna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endangered ( shy: protects the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nted because they eat human’s chicken &amp; eat their poult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rcaral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und in grassland in South and Central Africa &amp; Ind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d+body: 24-36 i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il: 9-12 i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er height: 15-20 i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ight: 28-42 pou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ped like a cat just big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xually mature at 12-15 months (male), 14-16 months (fema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te year-r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arcaral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station period 69-78 d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up to 16 yo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ttens weigh 10.5 oz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 alone no in packs/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ly live up to 17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at n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nt small animals: rabbit and porcup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animals: sheep, young antelope and de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 is only predat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nted for fur and me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t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ckelberry tre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nd throughout Afric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tects termites with its roo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fers moist and rocky so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p to 80 feet tall and 16 feet wid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ermuda Gra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iginally found in Afric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sturbances: grazing, flooding, fi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ts grow 47-59 inches deep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grow in poor so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fers moist and warm clima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aoba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nd in Africa and Ind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w up to 25 meters lo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ve up to hundreds of ea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fless for 9 out of 12 month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t months: water is stored in trun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ark: cloth &amp; rop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ves: condiments and medici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uit: “monkey bread” is ea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limate: temperature and season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savanna has both wet and dry seas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October violent thunderstorms, and strong winds occur signaling the start of the DRY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t the height of the season (January) fires occ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March violent thunderstorms and strong winds occur yet again heralding the start of the WET s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verage temperature ranges anywhere from 68-86 degrees Fahrenhe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the Summer temperature ranges from 78-86 degrees Fahr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the Winter temperature ranges from 68-78 degrees Fahr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mperature rarely ever changes and when it does it is very gradual nothing drasti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 December – February it rarely ever rains at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mate: precipi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nual rainfall of 76.2-101.6 cm (30-40 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rain as little as 15.26 cm (6 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s much as 25.4 cm (10 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nimals in the savanna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rican wild do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: grasslands, savannas, &amp; open woodlands of eastern and southern Africa…DO NOT live in Jungle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, long body with muscular legs. (4 toes on each foo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Length: 75-100 cm (29-39 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 up to be 61-78 cm (23-30 i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il is 30-90 cm (12-15 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: 18-36 cm (37-79 Lb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rican Wild Dog co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e &amp; females are same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st dog in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rican Wild Dogs breed from December – M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 Pregnant for 10 months can have anywhere from 2-20 puppies bor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ppies stay in grass-lined burrow for 3-4 weeks, whole pack looks after puppies when out of bur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ults take turn babysitting puppies while others hu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ppies stop drinking mothers milk after 5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rican Wild Dog co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ure between 12-18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 will give birth every 12-14 months, they don’t breed until much older (age not giv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ly expected to live up to 1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ivores: eat medium sized gazelles, antel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hunting they follow herd until one seper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eed without a killing b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in competition with hyenas, jackals and l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redator is the human 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gyptian Mongoos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st of all mongooses in Afr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ve: schrub thickets, rocky areas, small woodlands, &amp; forested areas within savan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fer to live in foresed areas near wa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famous for being snake kill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ight: 19-23 inch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ighs:4-7 poun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il: 13-21 inch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5-40 teet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gyptian Mongoose cont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le &amp; Female sexually mature at 2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ly – August is mating season (mating lasts 5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1 weeks for gestation peri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hers have 2-4 yo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bies helpless for 6-8 days then able to follow m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rth: blind &amp; fur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en eyes at 6-8 d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th parents raise you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3:19:08Z</dcterms:created>
  <dc:creator>xpstudent</dc:creator>
  <dc:description/>
  <dc:language>en-US</dc:language>
  <cp:lastModifiedBy>xpstudent</cp:lastModifiedBy>
  <dcterms:modified xsi:type="dcterms:W3CDTF">2010-10-28T13:32:29Z</dcterms:modified>
  <cp:revision>3</cp:revision>
  <dc:subject/>
  <dc:title>SAVANNA!! </dc:title>
</cp:coreProperties>
</file>